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13C-513F-4F0C-875E-1CA92D87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CEC-785E-4A7F-B293-BA21FE8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D30-02E1-4E38-92AB-7DA1907A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D1F-4955-4BB5-9446-82DEF38A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8F0-28AB-4316-AE2B-8C03B042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ACB6-AF2D-496D-8F3C-B4285596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EEC-05F0-4268-80AE-1E8E4ED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04D-248A-46A1-930E-9E191F6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25F-40E4-4E62-B3AB-DCF5A743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547-86FC-4AE3-B0A3-B9462D6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271-207D-4A34-A037-F5AAF27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6E0-872C-40B2-8A35-C5975844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F101-3FCD-4987-9321-FCDB101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F56-B355-4BB8-9080-8F662B7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54BD-C227-4C9A-8621-34E248F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F551-1232-4844-8FCA-8B04E279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6623-F119-4CB6-B7A1-20325849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B9D-6DCD-452E-BD93-9A90E99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A76-66F8-41B1-8FAB-7FCFCC6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6BA-1BCA-48DC-8044-4B1DB609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388-39E5-4365-BE6A-097CA61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936-DA97-42E4-B76D-15AA06A8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BE6-2AC9-4BE5-B953-E98639A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115-7F51-444A-8DD0-87C3B24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3A4E-1D97-48A3-BE95-FCD30173D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23EB-0A2B-4CBB-AB88-74DA665BE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Till There Was No Remedy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(The Divided Kingdom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 6, Lesson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.37-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hron.19-20; 1 Kings 22:48 – 2 Kings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Study Thus F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761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762120"/>
            <a:ext cx="3809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41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228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We Are In Ou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809880"/>
            <a:ext cx="4038480" cy="274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hab had died in the 1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ear of the reign of Jehoshap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Prophet Jehu Rebukes Jehoshaph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his actions of unbelie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ances with Ahab: Helping “those who hate the Lord” – 2 Chron.19: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hant ship alliance with King Ahaziah – 20:35-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hazia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years, though co-regent with his 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Evil King of Isra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s Jeroboam’s sin of idolatry in Isra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serious fall and injury – 2 Kings 1: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jah said he would die. 3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aziah’s fury toward Elijah. 5-9,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e that consumes – 10,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jah is vindicated in Ahaziah’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ehoshaphat’s Further Refo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hron.19:4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things he d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oints godly judges throughout the 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onishes them to deal justly with all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aside all tendency to let bribes color their judg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vasion of Moabites, Ammonites, and Men From Mt. Sei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hron.20:3-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of a coming storm of war – vs.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to Jehoshaphat’s fe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laims a public fast – v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s a public prayer – 4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s God’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haziel sends word of victory from the Lord.13-17  “The battle belongs to the Lor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azing grace, victory, celebration.18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74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t.S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980720" y="4495680"/>
            <a:ext cx="30492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133360" y="4343040"/>
            <a:ext cx="2286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33720" y="4267080"/>
            <a:ext cx="30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33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asion of Moabites, Ammonites, and Men From Mt. Se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95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the enemy presses in hard do not fear, the battle belongs to the Lord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35:18Z</dcterms:created>
  <dc:creator>Terry W. Benton</dc:creator>
  <dc:description/>
  <dc:language>en-US</dc:language>
  <cp:lastModifiedBy>Frank D Vines</cp:lastModifiedBy>
  <dcterms:modified xsi:type="dcterms:W3CDTF">2005-08-03T14:07:36Z</dcterms:modified>
  <cp:revision>2</cp:revision>
  <dc:subject/>
  <dc:title>Till There Was No Remedy (The Divided Kingdom)</dc:title>
</cp:coreProperties>
</file>